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E31-F72E-492E-A322-613D75EF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E14-F72A-4C9B-9D23-61ACC332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4D7-BC7C-4466-9F34-15CB5400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DFB-E3E0-4166-B6B7-ABAD29B9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2B2-D776-44CF-9C2C-3D8066E8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4E4-206D-4110-A189-8443D978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43C-5AB3-4BBE-B5BD-771AE159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1F0-5DD8-4872-8D2B-EA2EF086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F66-29EC-40BE-886D-7CD5BB00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BDA-2F48-46D1-9A7C-8AC61D2F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B14-B2DF-4B07-85FF-94541CE0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438-7BF0-478F-8359-B97E32C5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2C65-D71B-4064-82EC-02190559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3/18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76560" y="0"/>
            <a:ext cx="479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1828800"/>
            <a:ext cx="4800600" cy="2819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lude “Medic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el the following aspects of patient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Lab Results/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IV test, Hemogl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Vital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eart Rate,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sulin, Aspi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DCM (and potentially HL7 R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3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648320"/>
            <a:ext cx="46483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81160" y="14400"/>
            <a:ext cx="49816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23880"/>
            <a:ext cx="6781680" cy="266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3-18T14:16:20Z</dcterms:modified>
  <cp:revision>42</cp:revision>
  <dc:subject/>
  <dc:title>Slide 1</dc:title>
</cp:coreProperties>
</file>